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400" y="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400" y="942984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E34D3D1-7DDD-4B17-9E6A-9C25F20B7E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86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34F583F-E216-41A0-8257-A3B495CF12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B9D-AA92-412E-A65F-17DB8F03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BAD-9591-4389-A517-6430BD37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3FC-7843-4B68-BDCE-0FC982A3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E46-D599-4144-8E21-37A7F5A8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EE2-FF59-4322-B622-E40E7A7B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582-9EFE-415F-9D05-1E860522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75D-1EF2-472D-A4B1-CF87AFD1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44B-D3D6-4D17-BDF6-1CC9E50F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59B-4565-4B53-B582-9185E87F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D7C-1719-4243-9355-1758DE98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A81-0935-4503-B34D-12495594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C7D-A084-4C88-8CB9-A5D2937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2b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3061-B6B6-45C8-A08F-E7F1DF6E7B1A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EE94-DA2F-4EEC-A1FF-4491D44ED9B1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348000" y="1341360"/>
            <a:ext cx="558000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VMS / SSN sy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lot Project on Maritime Surveil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go, 4 December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wrence Sciber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itime Surveill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1. Data from VMS to SSN/STIR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28800" y="30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F789-42AC-418C-A997-BF76408C3DB4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6143760" y="2214720"/>
            <a:ext cx="809640" cy="676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3786120" y="1928880"/>
            <a:ext cx="809640" cy="676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"/>
          <p:cNvPicPr/>
          <p:nvPr/>
        </p:nvPicPr>
        <p:blipFill>
          <a:blip r:embed="rId4"/>
          <a:stretch/>
        </p:blipFill>
        <p:spPr>
          <a:xfrm>
            <a:off x="1000080" y="2214720"/>
            <a:ext cx="809640" cy="676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3877920" y="972360"/>
            <a:ext cx="138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3928320" y="1725120"/>
            <a:ext cx="128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8000" y="2781360"/>
            <a:ext cx="4915080" cy="3200040"/>
            <a:chOff x="1908000" y="2781360"/>
            <a:chExt cx="4915080" cy="3200040"/>
          </a:xfrm>
        </p:grpSpPr>
        <p:sp>
          <p:nvSpPr>
            <p:cNvPr id="78" name=""/>
            <p:cNvSpPr/>
            <p:nvPr/>
          </p:nvSpPr>
          <p:spPr>
            <a:xfrm>
              <a:off x="1908000" y="2781360"/>
              <a:ext cx="1371600" cy="60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650840" y="2781360"/>
              <a:ext cx="1485720" cy="60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5400" y="2781360"/>
              <a:ext cx="0" cy="60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5"/>
            <a:srcRect l="4500" t="10583" r="50185" b="8661"/>
            <a:stretch/>
          </p:blipFill>
          <p:spPr>
            <a:xfrm>
              <a:off x="2479320" y="4165560"/>
              <a:ext cx="3015720" cy="151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2" name=""/>
            <p:cNvSpPr/>
            <p:nvPr/>
          </p:nvSpPr>
          <p:spPr>
            <a:xfrm>
              <a:off x="2365200" y="2781360"/>
              <a:ext cx="114300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MS mess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65400" y="2895480"/>
              <a:ext cx="114300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MS mess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80080" y="2982960"/>
              <a:ext cx="114300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MS mess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07920" y="3444840"/>
              <a:ext cx="2514600" cy="25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SN/STIRES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5400" y="364680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3800" y="5676840"/>
              <a:ext cx="28573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MS/AIS correlated and displayed for FMC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2. SSN/STIRES AIS DATA to FMC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71680" y="2214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4CEA-2813-4B6A-9B5A-FD043A316B52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572160" y="1928880"/>
            <a:ext cx="809640" cy="67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4143240" y="1785960"/>
            <a:ext cx="809640" cy="67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"/>
          <p:cNvPicPr/>
          <p:nvPr/>
        </p:nvPicPr>
        <p:blipFill>
          <a:blip r:embed="rId4"/>
          <a:stretch/>
        </p:blipFill>
        <p:spPr>
          <a:xfrm>
            <a:off x="1714680" y="1928880"/>
            <a:ext cx="809280" cy="676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4"/>
          <p:cNvGrpSpPr/>
          <p:nvPr/>
        </p:nvGrpSpPr>
        <p:grpSpPr>
          <a:xfrm>
            <a:off x="1928880" y="2357280"/>
            <a:ext cx="5600520" cy="3929400"/>
            <a:chOff x="1928880" y="2357280"/>
            <a:chExt cx="5600520" cy="3929400"/>
          </a:xfrm>
        </p:grpSpPr>
        <p:sp>
          <p:nvSpPr>
            <p:cNvPr id="95" name="Line 17"/>
            <p:cNvSpPr/>
            <p:nvPr/>
          </p:nvSpPr>
          <p:spPr>
            <a:xfrm>
              <a:off x="4443480" y="3614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6"/>
            <p:cNvSpPr/>
            <p:nvPr/>
          </p:nvSpPr>
          <p:spPr>
            <a:xfrm>
              <a:off x="2386080" y="2471400"/>
              <a:ext cx="137160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5"/>
            <p:cNvSpPr/>
            <p:nvPr/>
          </p:nvSpPr>
          <p:spPr>
            <a:xfrm flipH="1">
              <a:off x="5128920" y="2471400"/>
              <a:ext cx="148572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>
              <a:off x="4672080" y="247140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Picture 13" descr=""/>
            <p:cNvPicPr/>
            <p:nvPr/>
          </p:nvPicPr>
          <p:blipFill>
            <a:blip r:embed="rId5"/>
            <a:srcRect l="4501" t="10580" r="50187" b="8662"/>
            <a:stretch/>
          </p:blipFill>
          <p:spPr>
            <a:xfrm>
              <a:off x="2957400" y="4000320"/>
              <a:ext cx="3015360" cy="200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0" name="Text Box 11"/>
            <p:cNvSpPr/>
            <p:nvPr/>
          </p:nvSpPr>
          <p:spPr>
            <a:xfrm>
              <a:off x="3300480" y="3309840"/>
              <a:ext cx="25146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SN/STIRES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 flipH="1" flipV="1">
              <a:off x="2157480" y="2471400"/>
              <a:ext cx="1257120" cy="79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9"/>
            <p:cNvSpPr/>
            <p:nvPr/>
          </p:nvSpPr>
          <p:spPr>
            <a:xfrm flipV="1">
              <a:off x="4443480" y="23572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 flipV="1">
              <a:off x="5815080" y="2471400"/>
              <a:ext cx="1371600" cy="79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7"/>
            <p:cNvSpPr/>
            <p:nvPr/>
          </p:nvSpPr>
          <p:spPr>
            <a:xfrm>
              <a:off x="6272280" y="3043080"/>
              <a:ext cx="125712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AIS messages under NAF format (6 mi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1928880" y="3157200"/>
              <a:ext cx="12571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AIS messages under NAF format (6 mi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3186000" y="6000840"/>
              <a:ext cx="251424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IS/VMS correlated and displayed for FMC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3911400" y="972360"/>
            <a:ext cx="132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3827880" y="172512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Access to CFCA</a:t>
            </a:r>
            <a:br>
              <a:rPr sz="2800"/>
            </a:b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VMS/SSN AIS Traffic Imag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6900-26EC-4310-9F5D-8A33AFD58A98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"/>
          <p:cNvGrpSpPr/>
          <p:nvPr/>
        </p:nvGrpSpPr>
        <p:grpSpPr>
          <a:xfrm>
            <a:off x="2214720" y="2643120"/>
            <a:ext cx="5142960" cy="3200400"/>
            <a:chOff x="2214720" y="2643120"/>
            <a:chExt cx="5142960" cy="3200400"/>
          </a:xfrm>
        </p:grpSpPr>
        <p:sp>
          <p:nvSpPr>
            <p:cNvPr id="113" name="Line 8"/>
            <p:cNvSpPr/>
            <p:nvPr/>
          </p:nvSpPr>
          <p:spPr>
            <a:xfrm>
              <a:off x="3700440" y="2985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Picture 7" descr=""/>
            <p:cNvPicPr/>
            <p:nvPr/>
          </p:nvPicPr>
          <p:blipFill>
            <a:blip r:embed="rId2"/>
            <a:srcRect l="4501" t="10584" r="50187" b="8662"/>
            <a:stretch/>
          </p:blipFill>
          <p:spPr>
            <a:xfrm>
              <a:off x="2214720" y="3443040"/>
              <a:ext cx="3015360" cy="1997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5" name="Text Box 6"/>
            <p:cNvSpPr/>
            <p:nvPr/>
          </p:nvSpPr>
          <p:spPr>
            <a:xfrm>
              <a:off x="2443320" y="2643120"/>
              <a:ext cx="2514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SN/STIRES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>
              <a:off x="4957920" y="2985840"/>
              <a:ext cx="1443240" cy="1257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"/>
            <p:cNvSpPr/>
            <p:nvPr/>
          </p:nvSpPr>
          <p:spPr>
            <a:xfrm>
              <a:off x="5529240" y="3100320"/>
              <a:ext cx="12571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AIS messages under NAF format (6 mi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3"/>
            <p:cNvSpPr/>
            <p:nvPr/>
          </p:nvSpPr>
          <p:spPr>
            <a:xfrm>
              <a:off x="6215040" y="4243320"/>
              <a:ext cx="114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ff"/>
                  </a:solidFill>
                  <a:latin typeface="Verdana"/>
                  <a:ea typeface="Times New Roman"/>
                </a:rPr>
                <a:t>CF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"/>
            <p:cNvSpPr/>
            <p:nvPr/>
          </p:nvSpPr>
          <p:spPr>
            <a:xfrm>
              <a:off x="2557440" y="5500800"/>
              <a:ext cx="2514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IS/VMS correlated and displayed for CF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14"/>
          <p:cNvSpPr/>
          <p:nvPr/>
        </p:nvSpPr>
        <p:spPr>
          <a:xfrm>
            <a:off x="340200" y="42552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Any Questions?</a:t>
            </a:r>
            <a:br>
              <a:rPr sz="2400"/>
            </a:b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Objective of SSN / VMS concept Paper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is paper proposes a technical approach and a concept. It: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Defines the SafeSeaNet  (SSN) / Vessel Monitoring System (VMS) pilot project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Identifies the important elements that must be taken into consideration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Identifies benefits and synergies.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Brief Description of VMS /AIS systems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920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VMS: All EU fishing vessels above 15 meters are fitted with VMS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VMS data is sent to FMCs via Satellite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MCs monitor the location of fishing vessel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IS: initially a ship anti-collision too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o identify and monitor ship movement (IMO SOLAS V/19) for all ships above 300GT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tended to vessel trafficking monitoring (Article 9 of Directive 2002/59 EC, Shore Base AIS network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shing vessels &gt; 45m, &gt; 15m Directive 2009/17 EC – 30 Nov 2010 – 31 May 2014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VMS data flow to FMC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55" name="Εικόνα 12" descr="http://ec.europa.eu/fisheries/cfp/control_enforcement/img/VMS.jpg"/>
          <p:cNvPicPr/>
          <p:nvPr/>
        </p:nvPicPr>
        <p:blipFill>
          <a:blip r:embed="rId2"/>
          <a:stretch/>
        </p:blipFill>
        <p:spPr>
          <a:xfrm>
            <a:off x="1547640" y="2060640"/>
            <a:ext cx="56883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tate of Play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Member States participating in the pilot project: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rance, Italy, and Spain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Format of messages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change of messages between  FMCs based on North Atlantic Format  (NAF)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nformation on the format, content, of messages are described in Annex 1, II, and III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Exchange of AIS  information through SSN/ STIRES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SN / STIRES is a central data base collecting and storing AIS data from all AIS networks;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Data coming from regional servers (Baltic, North Sea and the Mediterranean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directly from MSs server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A coordinate the implementation of SSN at national level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SN/STIRES  - AIS messages in IEC format, streamed mode exchange, update rate is every 6 min, technically possible to increase the update frequency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Legal Basis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1532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ive 2009/17/EC (amendment of 2002/59/EC): AIS on fishing vessels above 15m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Proposal for a Council Regulation establishing a Community control for compliance of the Common Fisheries Policy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rticle 10 : correlation of AIS – VMS by MS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rticle 11 : use of the Vessel Detection System (VDS) to match positions derived from VMS or AI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rticle 12 : VMS</a:t>
            </a: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IS, and VDS data to be made available to COM and agencies for surveillance purposes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Benefits for exchanging VMS/SSN data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760" y="220968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By correlating VMS and SSN AIS data identity of  fishing vessels can be confirmed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identify of fishing vessels transmitting AIS and VMS can be confirmed thus can be better monitored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shing vessels can still be monitored even if they switch off the VMS, thus ensuring continuity of monitoring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Vessel Detection System: JRS already correlated VMS with AIS data and SAT picture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Update rate of SSN AIS data every 6min whereas VMS is every 2 hours (pollution detection, SAR, illegal fishing)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7968-7040-49B1-8564-BACAF6A55508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Three Technical Proposal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S data (using the NAF format) of three FMCs to be sent to SSN/STIRES, correlated  with AIS and displayed on SSN/STIRES screen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EMSA will send back to FMCs AIS data in NAF format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Combined VMS/SSN AIS traffic image correlated within the SSN will be made available to CFCA  - access via EMSA web interface and proxy application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F6C8-A6E5-420F-90B4-03E76A6AC39C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12:56:40Z</dcterms:created>
  <dc:creator>sessisa</dc:creator>
  <dc:description/>
  <dc:language>en-US</dc:language>
  <cp:lastModifiedBy>Lawrence SCIBERRAS</cp:lastModifiedBy>
  <cp:lastPrinted>2004-03-26T09:05:49Z</cp:lastPrinted>
  <dcterms:modified xsi:type="dcterms:W3CDTF">2009-12-02T11:19:06Z</dcterms:modified>
  <cp:revision>778</cp:revision>
  <dc:subject/>
  <dc:title>Slide 1</dc:title>
</cp:coreProperties>
</file>